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658-8B2D-4805-B11A-E23E340C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5D5-823C-46DD-A9A5-C3ACBF5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586-7E85-447F-B5AE-AE5A4AE2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87A-E671-4DB4-BDCD-3C35EFFB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905-67F8-48D0-96FE-D5B18284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AF7B-A11B-49D8-B4F3-2B1985A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7B37-BA91-44E4-AFDD-E2D3226D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3A7-DAE6-4DE5-9B2B-98E5FDA5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5C5-3669-4352-83A0-FE5005F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E4C-C5DD-4B15-9A5A-1E636DB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BF6-9CD0-4AEA-99AB-245A9CD1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5A0-E7A6-47D7-AFBD-B94AC61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4A48-74D4-4487-ABB2-A3C9F09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11BA-1ECF-4A5B-9AAA-6BD2941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C6D7-DF9E-48CB-90A3-280C29F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91AD-6D09-4CE6-861F-8F21FF1B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6207-D55E-420C-A930-D8793189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557-DBA9-4338-9447-CBCCC30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B05-B598-4A93-9C53-A1EACB56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247-5266-450D-A6A6-EABB019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D69-68BD-4DD3-B85D-B25B906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1C9-7D51-4430-A81A-5CC40C9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BFE-1BB3-4CD8-8D68-1356BE89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21E-A3E0-41B5-A7F8-99730741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055-9413-48F9-9306-E49152268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F2F-1E37-4B03-B633-E7951DDC3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gust 2006, the yacht 'Maiken' is traveling in the south Pacific when they came across a weird sight..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in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6280" y="60199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n this was spott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933960" cy="520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29920" y="59832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h and steam rising from the ocea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4457880" cy="5943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50000" y="72540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, while th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e watchin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5760" y="609588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rand new island formed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18080" y="59436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lume of black ash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0400" y="1523880"/>
            <a:ext cx="859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bet this is the most inter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ng you’ll see to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9160" y="6107040"/>
            <a:ext cx="75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as sand in the water, and floating ON TOP of the waves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8360" y="59436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not a beach, it is volcanic stones floating on the 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4160" y="60199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il left by the yach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9:38:06Z</dcterms:created>
  <dc:creator>Berny Mills</dc:creator>
  <dc:description/>
  <cp:keywords/>
  <dc:language>en-US</dc:language>
  <cp:lastModifiedBy>Berny Mills</cp:lastModifiedBy>
  <dcterms:modified xsi:type="dcterms:W3CDTF">2006-12-10T20:00:19Z</dcterms:modified>
  <cp:revision>2</cp:revision>
  <dc:subject/>
  <dc:title>August 2006, the yacht 'Maiken' is traveling in the south Pacific when they came across a weird sight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